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C455-0172-4A86-B4CF-921BE4C2EE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31FE-B1D2-4C00-9A1B-2CE1CF7A7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B6DF-05B6-4C79-BE8F-A22E181CC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EC8D-A0C7-4130-B1F8-F5D1FAE93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9128-B5D8-4A12-929F-4531B74E8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3D48-EE3D-43A6-8A5F-F30E57869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88B0-D869-4576-A98B-E32CEF293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2615-7AA7-4752-BA2A-68D150C9C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A12F-A43E-4727-86A2-441FD3AFA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DE89-4F75-4DD3-A754-CFA01BC30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125F-F929-416B-ADAE-6E6745A6C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6D6C-4F61-489B-B946-BD72BECB6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E2E0-C7A3-4419-A949-5AEBCE23D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1EE5-A36B-40DF-B192-B64905724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3534-B129-4FA6-AAC6-A592ADC4E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4FED-3A1D-4A2B-9758-8C51AEC1C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660B-C4B6-45F8-A769-56C2C343E975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Time C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ow often do people get pa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hat’s the difference between Gross and 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hat’s the difference between salaried and hou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C631-0C66-446E-AB37-A7471D3C497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ING A PAYROLL TIME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10"/>
          <p:cNvGrpSpPr/>
          <p:nvPr/>
        </p:nvGrpSpPr>
        <p:grpSpPr>
          <a:xfrm>
            <a:off x="2286000" y="2124000"/>
            <a:ext cx="4572000" cy="2676600"/>
            <a:chOff x="2286000" y="2124000"/>
            <a:chExt cx="4572000" cy="2676600"/>
          </a:xfrm>
        </p:grpSpPr>
        <p:pic>
          <p:nvPicPr>
            <p:cNvPr id="102" name="Picture 7" descr="C:\Documents and Settings\mcm08@fuse.net\My Documents\2005 Business Projects\Slides for Century 21 Accounting\Blue\ch12\C21_blue_1202.jpg"/>
            <p:cNvPicPr/>
            <p:nvPr/>
          </p:nvPicPr>
          <p:blipFill>
            <a:blip r:embed="rId1"/>
            <a:srcRect l="0" t="0" r="0" b="56258"/>
            <a:stretch/>
          </p:blipFill>
          <p:spPr>
            <a:xfrm>
              <a:off x="2286000" y="2124000"/>
              <a:ext cx="4572000" cy="26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9" descr="C:\Documents and Settings\mcm08@fuse.net\My Documents\2005 Business Projects\Slides for Century 21 Accounting\Blue\ch12\C21_blue_1202.jpg"/>
            <p:cNvPicPr/>
            <p:nvPr/>
          </p:nvPicPr>
          <p:blipFill>
            <a:blip r:embed="rId2"/>
            <a:srcRect l="6664" t="1253" r="83341" b="93785"/>
            <a:stretch/>
          </p:blipFill>
          <p:spPr>
            <a:xfrm>
              <a:off x="5791320" y="4430880"/>
              <a:ext cx="45720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5327-E165-446F-B219-1E9F7608589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5486400" y="4667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Hour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HOURS 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C:\Documents and Settings\mcm08@fuse.net\My Documents\2005 Business Projects\Slides for Century 21 Accounting\Blue\ch12\C21_blue_1202.jpg"/>
          <p:cNvPicPr/>
          <p:nvPr/>
        </p:nvPicPr>
        <p:blipFill>
          <a:blip r:embed="rId1"/>
          <a:stretch/>
        </p:blipFill>
        <p:spPr>
          <a:xfrm>
            <a:off x="963720" y="1447920"/>
            <a:ext cx="3643200" cy="4876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20"/>
          <p:cNvGrpSpPr/>
          <p:nvPr/>
        </p:nvGrpSpPr>
        <p:grpSpPr>
          <a:xfrm>
            <a:off x="3838680" y="1981080"/>
            <a:ext cx="1392120" cy="990720"/>
            <a:chOff x="3838680" y="1981080"/>
            <a:chExt cx="1392120" cy="990720"/>
          </a:xfrm>
        </p:grpSpPr>
        <p:sp>
          <p:nvSpPr>
            <p:cNvPr id="111" name="Freeform 14"/>
            <p:cNvSpPr/>
            <p:nvPr/>
          </p:nvSpPr>
          <p:spPr>
            <a:xfrm>
              <a:off x="3838680" y="2209680"/>
              <a:ext cx="1295280" cy="762120"/>
            </a:xfrm>
            <a:custGeom>
              <a:avLst/>
              <a:gdLst/>
              <a:ahLst/>
              <a:rect l="l" t="t" r="r" b="b"/>
              <a:pathLst>
                <a:path w="816" h="480">
                  <a:moveTo>
                    <a:pt x="0" y="480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4819680" y="1981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9"/>
          <p:cNvGrpSpPr/>
          <p:nvPr/>
        </p:nvGrpSpPr>
        <p:grpSpPr>
          <a:xfrm>
            <a:off x="4621320" y="4038480"/>
            <a:ext cx="712800" cy="762120"/>
            <a:chOff x="4621320" y="4038480"/>
            <a:chExt cx="712800" cy="762120"/>
          </a:xfrm>
        </p:grpSpPr>
        <p:sp>
          <p:nvSpPr>
            <p:cNvPr id="114" name="Freeform 16"/>
            <p:cNvSpPr/>
            <p:nvPr/>
          </p:nvSpPr>
          <p:spPr>
            <a:xfrm>
              <a:off x="4621320" y="4038480"/>
              <a:ext cx="533160" cy="76212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4923000" y="4195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24"/>
          <p:cNvGrpSpPr/>
          <p:nvPr/>
        </p:nvGrpSpPr>
        <p:grpSpPr>
          <a:xfrm>
            <a:off x="2716200" y="5416560"/>
            <a:ext cx="2617920" cy="411120"/>
            <a:chOff x="2716200" y="5416560"/>
            <a:chExt cx="2617920" cy="411120"/>
          </a:xfrm>
        </p:grpSpPr>
        <p:sp>
          <p:nvSpPr>
            <p:cNvPr id="117" name="Freeform 17"/>
            <p:cNvSpPr/>
            <p:nvPr/>
          </p:nvSpPr>
          <p:spPr>
            <a:xfrm>
              <a:off x="2716200" y="5484960"/>
              <a:ext cx="2438280" cy="27468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4923000" y="54165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23"/>
          <p:cNvGrpSpPr/>
          <p:nvPr/>
        </p:nvGrpSpPr>
        <p:grpSpPr>
          <a:xfrm>
            <a:off x="304920" y="5805360"/>
            <a:ext cx="1828440" cy="411120"/>
            <a:chOff x="304920" y="5805360"/>
            <a:chExt cx="1828440" cy="411120"/>
          </a:xfrm>
        </p:grpSpPr>
        <p:sp>
          <p:nvSpPr>
            <p:cNvPr id="120" name="Line 22"/>
            <p:cNvSpPr/>
            <p:nvPr/>
          </p:nvSpPr>
          <p:spPr>
            <a:xfrm flipH="1">
              <a:off x="456840" y="6010200"/>
              <a:ext cx="1676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304920" y="5805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26"/>
          <p:cNvSpPr/>
          <p:nvPr/>
        </p:nvSpPr>
        <p:spPr>
          <a:xfrm>
            <a:off x="5486400" y="36925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Hours Reg and Hours OT columns and enter the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5486400" y="271764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of overtime hours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5486400" y="14479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  of regular hours for each day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8ED9-9A88-49BD-904D-268CE338C51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TOTAL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C:\Documents and Settings\mcm08@fuse.net\My Documents\2005 Business Projects\Slides for Century 21 Accounting\Blue\ch12\C21_blue_1205.jpg"/>
          <p:cNvPicPr/>
          <p:nvPr/>
        </p:nvPicPr>
        <p:blipFill>
          <a:blip r:embed="rId1"/>
          <a:stretch/>
        </p:blipFill>
        <p:spPr>
          <a:xfrm>
            <a:off x="958680" y="1442880"/>
            <a:ext cx="3648240" cy="4881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23"/>
          <p:cNvGrpSpPr/>
          <p:nvPr/>
        </p:nvGrpSpPr>
        <p:grpSpPr>
          <a:xfrm>
            <a:off x="304920" y="5648400"/>
            <a:ext cx="2584080" cy="411120"/>
            <a:chOff x="304920" y="5648400"/>
            <a:chExt cx="2584080" cy="411120"/>
          </a:xfrm>
        </p:grpSpPr>
        <p:sp>
          <p:nvSpPr>
            <p:cNvPr id="131" name="Line 15"/>
            <p:cNvSpPr/>
            <p:nvPr/>
          </p:nvSpPr>
          <p:spPr>
            <a:xfrm flipH="1">
              <a:off x="374400" y="572472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304920" y="56484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304920" y="5018040"/>
            <a:ext cx="2584080" cy="411120"/>
            <a:chOff x="304920" y="5018040"/>
            <a:chExt cx="2584080" cy="411120"/>
          </a:xfrm>
        </p:grpSpPr>
        <p:sp>
          <p:nvSpPr>
            <p:cNvPr id="134" name="Line 20"/>
            <p:cNvSpPr/>
            <p:nvPr/>
          </p:nvSpPr>
          <p:spPr>
            <a:xfrm flipH="1">
              <a:off x="374400" y="538488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21"/>
            <p:cNvSpPr/>
            <p:nvPr/>
          </p:nvSpPr>
          <p:spPr>
            <a:xfrm>
              <a:off x="304920" y="50180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24"/>
          <p:cNvGrpSpPr/>
          <p:nvPr/>
        </p:nvGrpSpPr>
        <p:grpSpPr>
          <a:xfrm>
            <a:off x="4648320" y="5248440"/>
            <a:ext cx="1249200" cy="411120"/>
            <a:chOff x="4648320" y="5248440"/>
            <a:chExt cx="1249200" cy="411120"/>
          </a:xfrm>
        </p:grpSpPr>
        <p:sp>
          <p:nvSpPr>
            <p:cNvPr id="137" name="Line 17"/>
            <p:cNvSpPr/>
            <p:nvPr/>
          </p:nvSpPr>
          <p:spPr>
            <a:xfrm>
              <a:off x="4648320" y="5455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5486400" y="52484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5"/>
          <p:cNvGrpSpPr/>
          <p:nvPr/>
        </p:nvGrpSpPr>
        <p:grpSpPr>
          <a:xfrm>
            <a:off x="4648320" y="5581800"/>
            <a:ext cx="2163600" cy="411120"/>
            <a:chOff x="4648320" y="5581800"/>
            <a:chExt cx="2163600" cy="411120"/>
          </a:xfrm>
        </p:grpSpPr>
        <p:sp>
          <p:nvSpPr>
            <p:cNvPr id="140" name="Line 18"/>
            <p:cNvSpPr/>
            <p:nvPr/>
          </p:nvSpPr>
          <p:spPr>
            <a:xfrm>
              <a:off x="4648320" y="5788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6400800" y="5581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4648320" y="5913360"/>
            <a:ext cx="3078000" cy="411120"/>
            <a:chOff x="4648320" y="5913360"/>
            <a:chExt cx="3078000" cy="411120"/>
          </a:xfrm>
        </p:grpSpPr>
        <p:sp>
          <p:nvSpPr>
            <p:cNvPr id="143" name="Line 19"/>
            <p:cNvSpPr/>
            <p:nvPr/>
          </p:nvSpPr>
          <p:spPr>
            <a:xfrm>
              <a:off x="4648320" y="6118200"/>
              <a:ext cx="274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7315200" y="5913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27"/>
          <p:cNvSpPr/>
          <p:nvPr/>
        </p:nvSpPr>
        <p:spPr>
          <a:xfrm>
            <a:off x="5029200" y="14479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regular time in the Rat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5029200" y="211464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regular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5029200" y="27813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over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5029200" y="31431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overtime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5029200" y="38098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Amount column to calculate total earnings. Enter the amount of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7F47-91A0-4312-A185-DEFBA7A37D4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paid for employe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y 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covered by a salary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yro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amount earned by all employees for a pay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tal earn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pay due for a pay period before d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bstromes</cp:lastModifiedBy>
  <dcterms:modified xsi:type="dcterms:W3CDTF">2014-12-22T16:56:27Z</dcterms:modified>
  <cp:revision>21</cp:revision>
  <dc:subject/>
  <dc:title>Lesson 12-1</dc:title>
</cp:coreProperties>
</file>